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319-FC56-4BDF-B110-94A6F25E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0FE-0015-4D48-A4CB-C4B43BA1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5EC-B207-4ADD-82A8-34D0974B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609-FB2A-44B9-8A7D-BFF9ADD6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037EB-7886-4288-8339-6268AEE6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033B6-441E-474C-971B-76473D0A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FB617-57E5-404B-9572-54DFEBB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57414-B376-4B96-8C71-F6080D7E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6BD24-FC69-47F7-9ACB-0A436B5A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8AA2-B515-4BB9-B671-B96FFC0C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86E42-11FD-4F64-BE5C-AE087DE7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818-3672-4639-98B0-62CC99F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A0C97-542E-4D39-8CC4-45634A28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47813-A272-4651-9E68-5270B6F6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AD90B-DC62-4199-A21A-6CF89950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0E87B-52FD-4D92-8E32-1BFB425B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80C5E-5D70-40E2-9644-5EE3C6CD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6D728-9336-4118-99DA-A15BA5D0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D4AE3-C87E-4D3F-BE6E-F21C8B6E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98ACB-87D8-4E5C-8D04-1CCC2117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C3E9F-E5DF-4E85-9033-75AD6A91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C8CC9-563B-4167-88B3-2E7F7807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FAD-ECDC-425E-A92B-DC0D37A6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9AB00-1BB1-49CC-9275-E5EA657B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F4041-7093-4B00-B73A-ECF2585D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13301-08C2-458B-8DD2-B6E1625B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F31FA-B45F-4837-BA3E-A67E8262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0FE51-A6FA-4C3F-AA03-3756421E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0E4BD-D40A-46DF-B9DB-61CB7839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AE3DD-664F-447C-BCF5-4574B90C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F1B1E-A2E3-45A4-A0D7-0993C945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53117-CD45-4079-A72D-6D3E4AD6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571BE-3D31-40BD-BEFE-9F2B8506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7A5-4503-446A-9074-6BF315AD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F25F2-EFF5-4B16-9534-E55D4ADC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76AA5-864B-4A9C-8A75-572995AE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DC50C-2F9B-4517-B6AB-53FC1E5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13134-83E1-4EF8-9D51-AA32AAFC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D73A0-85C4-44BD-B8F7-622A066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61210-AA1A-49FE-96B3-FDA73DF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B1F9A-2458-4AF5-82FC-7762695A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FE498-288B-487A-ADDE-8655DE3C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7A4E0-5895-46B9-ACE3-F3945B19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D8A-31E0-4A21-83CD-1A38CBB8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3D3-2BA9-43F3-A876-6F35C9CA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C55-013F-44EE-88E0-231CD11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315-7D48-4739-983E-35C79D7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219-9747-4E02-9C1B-5F66365F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矩形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矩形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矩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直接连接符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直接连接符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直接连接符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直接连接符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直接连接符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椭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" name="椭圆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" name="椭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" name="椭圆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椭圆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直接连接符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75D3-2D18-4043-96BB-6CA84483EF2E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A751-6BCC-44A5-967D-E8AC95C2BC2C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直接连接符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直接连接符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直接连接符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直接连接符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椭圆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9A5-A75B-4571-A6EA-4A83BF76BA4C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直接连接符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椭圆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直接连接符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直接连接符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直接连接符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92ED-D079-4634-A96D-8C0A28C104F3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5960" y="2143080"/>
            <a:ext cx="619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900" spc="-1" strike="noStrike">
                <a:solidFill>
                  <a:srgbClr val="ff0000"/>
                </a:solidFill>
                <a:latin typeface="Century Schoolbook"/>
                <a:ea typeface="楷体_GB2312"/>
              </a:rPr>
              <a:t>《长歌行》</a:t>
            </a:r>
            <a:br>
              <a:rPr sz="7900"/>
            </a:br>
            <a:r>
              <a:rPr b="1" lang="zh-CN" sz="7900" spc="-1" strike="noStrike">
                <a:solidFill>
                  <a:srgbClr val="ff0000"/>
                </a:solidFill>
                <a:latin typeface="Century Schoolbook"/>
                <a:ea typeface="楷体_GB2312"/>
              </a:rPr>
              <a:t>           </a:t>
            </a:r>
            <a:r>
              <a:rPr b="1" lang="zh-CN" sz="5400" spc="-1" strike="noStrike">
                <a:solidFill>
                  <a:srgbClr val="ff0000"/>
                </a:solidFill>
                <a:latin typeface="Century Schoolbook"/>
                <a:ea typeface="楷体_GB2312"/>
              </a:rPr>
              <a:t>汉乐府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57200" y="50004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Century Schoolbook"/>
              </a:rPr>
              <a:t>看不见，摸不着，跑得快，又没脚，一去永远不回头，千金万金买不到。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6357240" y="1357200"/>
            <a:ext cx="12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---</a:t>
            </a:r>
            <a:r>
              <a:rPr b="1" lang="zh-CN" sz="3600" spc="-1" strike="noStrike">
                <a:solidFill>
                  <a:srgbClr val="ffffff"/>
                </a:solidFill>
                <a:latin typeface="Century Schoolbook"/>
              </a:rPr>
              <a:t>时间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55432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Schoolbook"/>
                <a:ea typeface="黑体"/>
              </a:rPr>
              <a:t>青青园中葵，朝露待日晞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Schoolbook"/>
                <a:ea typeface="黑体"/>
              </a:rPr>
              <a:t>阳春布德泽，万物生光辉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Schoolbook"/>
                <a:ea typeface="黑体"/>
              </a:rPr>
              <a:t>常恐秋节至，焜黄华叶衰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Schoolbook"/>
                <a:ea typeface="黑体"/>
              </a:rPr>
              <a:t>百川东到海，何时复西归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174760" y="479916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朝露易干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174760" y="4149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秋来叶落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174760" y="544680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百川东去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4859280" y="4508640"/>
            <a:ext cx="380880" cy="1371600"/>
          </a:xfrm>
          <a:custGeom>
            <a:avLst/>
            <a:gdLst>
              <a:gd name="textAreaLeft" fmla="*/ 0 w 380880"/>
              <a:gd name="textAreaRight" fmla="*/ 13752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508720" y="429264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时间易逝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珍惜少年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及时努力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6500880" y="200016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写景）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6643800" y="30718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联想）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6000840" y="1714680"/>
            <a:ext cx="215640" cy="871200"/>
          </a:xfrm>
          <a:custGeom>
            <a:avLst/>
            <a:gdLst>
              <a:gd name="textAreaLeft" fmla="*/ 0 w 215640"/>
              <a:gd name="textAreaRight" fmla="*/ 77760 w 215640"/>
              <a:gd name="textAreaTop" fmla="*/ 22680 h 871200"/>
              <a:gd name="textAreaBottom" fmla="*/ 848520 h 87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6072120" y="3000240"/>
            <a:ext cx="228600" cy="77004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70040"/>
              <a:gd name="textAreaBottom" fmla="*/ 750240 h 77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2627280" y="333360"/>
            <a:ext cx="4392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75f6d"/>
                </a:solidFill>
                <a:latin typeface="黑体"/>
                <a:ea typeface="黑体"/>
              </a:rPr>
              <a:t>课文赏析</a:t>
            </a:r>
            <a:r>
              <a:rPr b="0" lang="en-US" sz="4400" spc="-1" strike="noStrike">
                <a:solidFill>
                  <a:srgbClr val="575f6d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575f6d"/>
                </a:solidFill>
                <a:latin typeface="黑体"/>
                <a:ea typeface="黑体"/>
              </a:rPr>
              <a:t>第一层</a:t>
            </a:r>
            <a:r>
              <a:rPr b="0" lang="en-US" sz="4400" spc="-1" strike="noStrike">
                <a:solidFill>
                  <a:srgbClr val="575f6d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684360" y="4797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Schoolbook"/>
              </a:rPr>
              <a:t>通过写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34680" y="1412640"/>
            <a:ext cx="54198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  <a:ea typeface="黑体"/>
              </a:rPr>
              <a:t>少壮不努力，老大徒伤悲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539400" y="1916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警策哲理，卒章显志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6031440" y="148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（抒情）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268360" y="333360"/>
            <a:ext cx="4392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75f6d"/>
                </a:solidFill>
                <a:latin typeface="黑体"/>
                <a:ea typeface="黑体"/>
              </a:rPr>
              <a:t>课文赏析</a:t>
            </a:r>
            <a:r>
              <a:rPr b="0" lang="en-US" sz="4400" spc="-1" strike="noStrike">
                <a:solidFill>
                  <a:srgbClr val="575f6d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575f6d"/>
                </a:solidFill>
                <a:latin typeface="黑体"/>
                <a:ea typeface="黑体"/>
              </a:rPr>
              <a:t>第二层</a:t>
            </a:r>
            <a:r>
              <a:rPr b="0" lang="en-US" sz="4400" spc="-1" strike="noStrike">
                <a:solidFill>
                  <a:srgbClr val="575f6d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971640" y="2997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Century Schoolbook"/>
                <a:ea typeface="楷体_GB2312"/>
              </a:rPr>
              <a:t>本诗通过鲜明的自然景物变化归结到人生变化，道出“珍惜时间”的哲理，劝人们珍惜青春，应当及时努力做出一番事业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Century Schoolbook"/>
                <a:ea typeface="楷体_GB2312"/>
              </a:rPr>
              <a:t>通俗易懂又发人深思。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948360" y="5589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entury Schoolbook"/>
                <a:ea typeface="黑体"/>
              </a:rPr>
              <a:t>主旨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684360" y="2637000"/>
            <a:ext cx="7632720" cy="3816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440" y="3240"/>
            <a:ext cx="9145800" cy="68832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0" y="16002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116000" y="404640"/>
            <a:ext cx="71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Century Schoolbook"/>
                <a:ea typeface="Arial"/>
              </a:rPr>
              <a:t>赏析：</a:t>
            </a:r>
            <a:r>
              <a:rPr b="1" lang="zh-CN" sz="2800" spc="-1" strike="noStrike">
                <a:solidFill>
                  <a:srgbClr val="ffcc00"/>
                </a:solidFill>
                <a:latin typeface="Century Schoolbook"/>
                <a:ea typeface="Arial"/>
              </a:rPr>
              <a:t> 这首诗从“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园中葵</a:t>
            </a:r>
            <a:r>
              <a:rPr b="1" lang="zh-CN" sz="2800" spc="-1" strike="noStrike">
                <a:solidFill>
                  <a:srgbClr val="ffcc00"/>
                </a:solidFill>
                <a:latin typeface="Century Schoolbook"/>
                <a:ea typeface="Arial"/>
              </a:rPr>
              <a:t>”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说起，再用水流到海不复回打比方，说明光阴如流水，一去不再回。最后劝导人们，要珍惜青春年华，发愤努力，不要等老了再后悔。这首诗借物言理，首先以园中的葵菜作比喻。</a:t>
            </a:r>
            <a:r>
              <a:rPr b="1" lang="zh-CN" sz="2800" spc="-1" strike="noStrike">
                <a:solidFill>
                  <a:srgbClr val="ffcc00"/>
                </a:solidFill>
                <a:latin typeface="Century Schoolbook"/>
                <a:ea typeface="Arial"/>
              </a:rPr>
              <a:t>“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青青</a:t>
            </a:r>
            <a:r>
              <a:rPr b="1" lang="zh-CN" sz="2800" spc="-1" strike="noStrike">
                <a:solidFill>
                  <a:srgbClr val="ffcc00"/>
                </a:solidFill>
                <a:latin typeface="Century Schoolbook"/>
                <a:ea typeface="Arial"/>
              </a:rPr>
              <a:t>”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喻其生长茂盛。其实在整个春天的阳光雨露之下，万物都在争相努力地生长。因为它们都恐怕秋天很快地到来，深知秋风凋零百草的道理。大自然的生命节奏如此，人生又何尝不是这样？一个人如果不趁着大好时光而努力奋斗，让青春白白地浪费，等到年老时后悔也来不及了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首诗由眼前青春美景想到人生易逝，鼓励青年人要珍惜时光，出言警策，催人奋起。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wheel spokes="2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9082080" cy="67676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684360" y="2708280"/>
            <a:ext cx="79912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428840" y="785880"/>
            <a:ext cx="7500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Century Schoolbook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一寸光阴一寸金，寸金难买寸光阴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不饱食以终日，不弃功于寸阴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黑发不知勤学早，白首方悔读书迟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花儿还有重开日，人生没有再少年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节气不饶苗，岁月不饶人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一日无二晨，时间不重临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7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光阴似箭，日月如梭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三更灯火五更鸡，正是男儿读书时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盛年不再来，岁月不待人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Century Schoolbook"/>
              </a:rPr>
              <a:t>、明日复明日，明日何其多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WordArt 5"/>
          <p:cNvSpPr txBox="1"/>
          <p:nvPr/>
        </p:nvSpPr>
        <p:spPr>
          <a:xfrm rot="5400000">
            <a:off x="-1477800" y="2763720"/>
            <a:ext cx="4751640" cy="93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楷体"/>
              </a:rPr>
              <a:t>珍惜时间的诗句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楷体"/>
              <a:ea typeface="楷体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entury Schoolbook"/>
                <a:ea typeface="华文新魏"/>
              </a:rPr>
              <a:t>长歌行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2960" y="1773000"/>
            <a:ext cx="11923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青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阳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百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少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796000" y="981000"/>
            <a:ext cx="1582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75f6d"/>
                </a:solidFill>
                <a:latin typeface="Century Schoolbook"/>
                <a:ea typeface="华文新魏"/>
              </a:rPr>
              <a:t>汉乐府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500720" y="1773360"/>
            <a:ext cx="72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朝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万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焜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何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老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619280" y="1773360"/>
            <a:ext cx="720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青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0" y="0"/>
            <a:ext cx="85726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Century Schoolbook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Century Schoolbook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Century Schoolbook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Century Schoolbook"/>
              </a:rPr>
              <a:t>长歌行》是一首汉代乐府诗，选自《乐府诗集》卷三十，本诗是其中一首。这首诗 以景寄情，由情入理。从整体构思看，主要意思是说 时间如流水，要珍惜时间，努力上进，教育人们要趁着年轻多努力，其中的“少壮不努力，老大徒伤悲”是家喻户晓的名句，也是少年励志的座右铭。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entury Schoolbook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Century Schoolbook"/>
              </a:rPr>
              <a:t>乐府是自秦代以来设立的朝廷音乐机构，汉武帝时得到大规模地扩建，从民间搜集了大量的诗歌作品，后人通称之为“汉乐府”。之后，乐府也便成了一种体裁，内容丰富，题材广泛。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003760" y="5786280"/>
            <a:ext cx="27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《</a:t>
            </a:r>
            <a:r>
              <a:rPr b="0" lang="zh-CN" sz="3600" spc="-1" strike="noStrike">
                <a:solidFill>
                  <a:srgbClr val="ff0000"/>
                </a:solidFill>
                <a:latin typeface="Century Schoolbook"/>
              </a:rPr>
              <a:t>木兰诗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》</a:t>
            </a:r>
            <a:r>
              <a:rPr b="0" lang="zh-CN" sz="3600" spc="-1" strike="noStrike">
                <a:solidFill>
                  <a:srgbClr val="ff0000"/>
                </a:solidFill>
                <a:latin typeface="Century Schoolbook"/>
              </a:rPr>
              <a:t>选自汉乐府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entury Schoolbook"/>
                <a:ea typeface="华文新魏"/>
              </a:rPr>
              <a:t>长歌行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2600" y="1773360"/>
            <a:ext cx="792972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青青园中葵，朝露待日晞。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阳春布德泽，万物生光辉。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常恐秋节至，焜黄华叶衰。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百川东到海，何时复西归。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Century Schoolbook"/>
                <a:ea typeface="华文新魏"/>
              </a:rPr>
              <a:t>少壮不努力，老大徒伤悲。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796000" y="981000"/>
            <a:ext cx="1582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75f6d"/>
                </a:solidFill>
                <a:latin typeface="Century Schoolbook"/>
                <a:ea typeface="华文新魏"/>
              </a:rPr>
              <a:t>汉乐府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3384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75f6d"/>
                </a:solidFill>
                <a:latin typeface="Century Schoolbook"/>
                <a:ea typeface="黑体"/>
              </a:rPr>
              <a:t>第一首  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  <a:ea typeface="黑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Century Schoolbook"/>
                <a:ea typeface="黑体"/>
              </a:rPr>
              <a:t>长歌行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  <a:ea typeface="黑体"/>
              </a:rPr>
              <a:t>》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2480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entury Schoolbook"/>
                <a:ea typeface="黑体"/>
              </a:rPr>
              <a:t>正音、解释下列词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762200" y="2060640"/>
            <a:ext cx="3600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晞 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ī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     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衰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shuāi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焜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kūn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黄    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华 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huā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徒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ú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5146560" y="20811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entury Schoolbook"/>
              </a:rPr>
              <a:t>天亮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5146560" y="365112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entury Schoolbook"/>
              </a:rPr>
              <a:t>枯黄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075280" y="458136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entury Schoolbook"/>
              </a:rPr>
              <a:t>通“花”</a:t>
            </a:r>
            <a:r>
              <a:rPr b="1" lang="zh-CN" sz="1800" spc="-1" strike="noStrike">
                <a:solidFill>
                  <a:srgbClr val="ffffff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146560" y="2852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entury Schoolbook"/>
              </a:rPr>
              <a:t>衰败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002200" y="5300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entury Schoolbook"/>
              </a:rPr>
              <a:t>白白的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31680" y="-168120"/>
            <a:ext cx="9213840" cy="7026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1547640" y="1844640"/>
            <a:ext cx="6310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entury Schoolbook"/>
                <a:ea typeface="Arial"/>
              </a:rPr>
              <a:t>青青园中</a:t>
            </a:r>
            <a:r>
              <a:rPr b="1" lang="zh-CN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葵</a:t>
            </a:r>
            <a:r>
              <a:rPr b="1" lang="zh-CN" sz="4000" spc="-1" strike="noStrike">
                <a:solidFill>
                  <a:srgbClr val="ffffff"/>
                </a:solidFill>
                <a:latin typeface="Century Schoolbook"/>
                <a:ea typeface="Arial"/>
              </a:rPr>
              <a:t>，朝露待日</a:t>
            </a:r>
            <a:r>
              <a:rPr b="1" lang="zh-CN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晞</a:t>
            </a:r>
            <a:r>
              <a:rPr b="1" lang="zh-CN" sz="4000" spc="-1" strike="noStrike">
                <a:solidFill>
                  <a:srgbClr val="ffffff"/>
                </a:solidFill>
                <a:latin typeface="Century Schoolbook"/>
                <a:ea typeface="Arial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Century Schoolbook"/>
              </a:rPr>
              <a:t>葵：古代的一种蔬菜。 晞：晒干</a:t>
            </a:r>
            <a:r>
              <a:rPr b="1" lang="zh-CN" sz="3200" spc="-1" strike="noStrike">
                <a:solidFill>
                  <a:srgbClr val="d2611c"/>
                </a:solidFill>
                <a:latin typeface="Century Schoolbook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entury Schoolbook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219" name="图片 2" descr="10paint0006.jpg"/>
          <p:cNvPicPr/>
          <p:nvPr/>
        </p:nvPicPr>
        <p:blipFill>
          <a:blip r:embed="rId2"/>
          <a:stretch/>
        </p:blipFill>
        <p:spPr>
          <a:xfrm>
            <a:off x="34920" y="0"/>
            <a:ext cx="1714680" cy="1944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7"/>
          <p:cNvSpPr/>
          <p:nvPr/>
        </p:nvSpPr>
        <p:spPr>
          <a:xfrm>
            <a:off x="1714680" y="40006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entury Schoolbook"/>
              </a:rPr>
              <a:t>园中的葵菜呵郁郁葱葱，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entury Schoolbook"/>
              </a:rPr>
              <a:t>晶莹的朝露阳光下飞升。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71680" y="357120"/>
            <a:ext cx="8001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Century Schoolbook"/>
                <a:ea typeface="楷体"/>
              </a:rPr>
              <a:t>阳春</a:t>
            </a:r>
            <a:r>
              <a:rPr b="1" lang="zh-CN" sz="5400" spc="-1" strike="noStrike" u="sng">
                <a:solidFill>
                  <a:srgbClr val="575f6d"/>
                </a:solidFill>
                <a:uFillTx/>
                <a:latin typeface="Century Schoolbook"/>
                <a:ea typeface="楷体"/>
              </a:rPr>
              <a:t>布</a:t>
            </a:r>
            <a:r>
              <a:rPr b="1" lang="zh-CN" sz="5400" spc="-1" strike="noStrike" u="sng">
                <a:solidFill>
                  <a:srgbClr val="e75c01"/>
                </a:solidFill>
                <a:uFillTx/>
                <a:latin typeface="Century Schoolbook"/>
                <a:ea typeface="楷体"/>
              </a:rPr>
              <a:t>德泽</a:t>
            </a:r>
            <a:r>
              <a:rPr b="1" lang="zh-CN" sz="5400" spc="-1" strike="noStrike" u="sng">
                <a:solidFill>
                  <a:srgbClr val="7598d9"/>
                </a:solidFill>
                <a:uFillTx/>
                <a:latin typeface="Century Schoolbook"/>
                <a:ea typeface="楷体"/>
              </a:rPr>
              <a:t>，万物生光辉。</a:t>
            </a:r>
            <a:endParaRPr b="0" lang="en-US" sz="54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2361960" y="3714840"/>
            <a:ext cx="412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Century Schoolbook"/>
              </a:rPr>
              <a:t>春天把希望洒满了大地，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entury Schoolbook"/>
              </a:rPr>
              <a:t>万物都呈现出一派繁荣。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4409280" y="1428840"/>
            <a:ext cx="6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Century Schoolbook"/>
              </a:rPr>
              <a:t>阳春：就是春天，是阳光和露水充足的时候。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Century Schoolbook"/>
              </a:rPr>
              <a:t>布：散布，洒满。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Century Schoolbook"/>
              </a:rPr>
              <a:t>德泽：恩泽。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split dir="in" orient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9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16000" y="1052640"/>
            <a:ext cx="7201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Century Schoolbook"/>
                <a:ea typeface="Arial"/>
              </a:rPr>
              <a:t>常恐</a:t>
            </a:r>
            <a:r>
              <a:rPr b="1" lang="zh-CN" sz="4400" spc="-1" strike="noStrike">
                <a:solidFill>
                  <a:srgbClr val="ff0000"/>
                </a:solidFill>
                <a:latin typeface="Century Schoolbook"/>
                <a:ea typeface="Arial"/>
              </a:rPr>
              <a:t>秋节</a:t>
            </a:r>
            <a:r>
              <a:rPr b="1" lang="zh-CN" sz="4400" spc="-1" strike="noStrike">
                <a:solidFill>
                  <a:srgbClr val="003300"/>
                </a:solidFill>
                <a:latin typeface="Century Schoolbook"/>
                <a:ea typeface="Arial"/>
              </a:rPr>
              <a:t>至，</a:t>
            </a:r>
            <a:r>
              <a:rPr b="1" lang="zh-CN" sz="4400" spc="-1" strike="noStrike">
                <a:solidFill>
                  <a:srgbClr val="ff0000"/>
                </a:solidFill>
                <a:latin typeface="Century Schoolbook"/>
                <a:ea typeface="Arial"/>
              </a:rPr>
              <a:t>焜黄</a:t>
            </a:r>
            <a:r>
              <a:rPr b="1" lang="zh-CN" sz="4400" spc="-1" strike="noStrike">
                <a:solidFill>
                  <a:srgbClr val="003300"/>
                </a:solidFill>
                <a:latin typeface="Century Schoolbook"/>
                <a:ea typeface="Arial"/>
              </a:rPr>
              <a:t>华叶衰。</a:t>
            </a:r>
            <a:r>
              <a:rPr b="1" lang="zh-CN" sz="4000" spc="-1" strike="noStrike">
                <a:solidFill>
                  <a:srgbClr val="003300"/>
                </a:solidFill>
                <a:latin typeface="Century Schoolbook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entury Schoolbook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143000" y="4643280"/>
            <a:ext cx="6215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zh-CN" sz="3600" spc="-1" strike="noStrike">
                <a:solidFill>
                  <a:srgbClr val="336600"/>
                </a:solidFill>
                <a:latin typeface="Century Schoolbook"/>
                <a:ea typeface="Arial"/>
              </a:rPr>
              <a:t>恐那肃杀的秋天来到，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Century Schoolbook"/>
                <a:ea typeface="Arial"/>
              </a:rPr>
              <a:t>树叶儿黄落百草也凋零。</a:t>
            </a:r>
            <a:r>
              <a:rPr b="1" lang="zh-CN" sz="40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071720" y="2428920"/>
            <a:ext cx="521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2d050"/>
                </a:solidFill>
                <a:latin typeface="Century Schoolbook"/>
                <a:ea typeface="Arial"/>
              </a:rPr>
              <a:t>秋节：秋季。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2d050"/>
                </a:solidFill>
                <a:latin typeface="Century Schoolbook"/>
                <a:ea typeface="Arial"/>
              </a:rPr>
              <a:t>节，时节，节令。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2d050"/>
                </a:solidFill>
                <a:latin typeface="Century Schoolbook"/>
                <a:ea typeface="Arial"/>
              </a:rPr>
              <a:t>焜黄：枯黄。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137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 rot="16200000">
            <a:off x="4047480" y="95760"/>
            <a:ext cx="17949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Century Schoolbook"/>
              </a:rPr>
              <a:t>百川：无数条江河</a:t>
            </a:r>
            <a:r>
              <a:rPr b="1" lang="zh-CN" sz="2800" spc="-1" strike="noStrike">
                <a:solidFill>
                  <a:srgbClr val="993300"/>
                </a:solidFill>
                <a:latin typeface="Century Schoolbook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045800" y="-317520"/>
            <a:ext cx="72900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entury Schoolbook"/>
              </a:rPr>
              <a:t>百川</a:t>
            </a:r>
            <a:r>
              <a:rPr b="1" lang="zh-CN" sz="3600" spc="-1" strike="noStrike">
                <a:solidFill>
                  <a:srgbClr val="800000"/>
                </a:solidFill>
                <a:latin typeface="Century Schoolbook"/>
              </a:rPr>
              <a:t>东到海，何时复西归？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TextBox 5"/>
          <p:cNvSpPr/>
          <p:nvPr/>
        </p:nvSpPr>
        <p:spPr>
          <a:xfrm flipH="1">
            <a:off x="2642400" y="2714760"/>
            <a:ext cx="507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Century Schoolbook"/>
              </a:rPr>
              <a:t>百川奔腾着东流到大海，何时才能重新返回西境？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animClr clrSpc="rgb">
                                      <p:cBhvr>
                                        <p:cTn id="155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156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619280" y="1628640"/>
            <a:ext cx="60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Century Schoolbook"/>
                <a:ea typeface="Arial"/>
              </a:rPr>
              <a:t>少壮不努力，老大</a:t>
            </a:r>
            <a:r>
              <a:rPr b="1" lang="zh-CN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徒</a:t>
            </a:r>
            <a:r>
              <a:rPr b="1" lang="zh-CN" sz="4000" spc="-1" strike="noStrike">
                <a:solidFill>
                  <a:srgbClr val="6600cc"/>
                </a:solidFill>
                <a:latin typeface="Century Schoolbook"/>
                <a:ea typeface="Arial"/>
              </a:rPr>
              <a:t>伤悲。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2" name="TextBox 3"/>
          <p:cNvSpPr/>
          <p:nvPr/>
        </p:nvSpPr>
        <p:spPr>
          <a:xfrm flipH="1">
            <a:off x="1499400" y="3857760"/>
            <a:ext cx="659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Century Schoolbook"/>
              </a:rPr>
              <a:t>少年人如果不及时努力，到老来只能是悔恨一生。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4479840" y="300024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Century Schoolbook"/>
              </a:rPr>
              <a:t>徒：徒然，白白地。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7:18:27Z</dcterms:created>
  <dc:creator>User</dc:creator>
  <dc:description/>
  <dc:language>en-US</dc:language>
  <cp:lastModifiedBy>User</cp:lastModifiedBy>
  <dcterms:modified xsi:type="dcterms:W3CDTF">2016-09-01T09:33:57Z</dcterms:modified>
  <cp:revision>6</cp:revision>
  <dc:subject/>
  <dc:title>《长歌行》            汉乐府</dc:title>
</cp:coreProperties>
</file>